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CAFD-AD65-48A0-9A86-A722C01A2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wer of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sen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Dr. Charles Ca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hen Kras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ower of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 Presen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y Dr. Charles Ca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ased on the work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ephen Kras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eiko. She h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is is Keiko. She h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iko wants to improve her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tudied English for six years in Jr. High and in High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bought several books on English Gramm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tudied vocabulary on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bought an electronic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even went to an English Conversation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Keiko wants to improve her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studied English for six years in Jr. High and in High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bought several books on English Gramm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studied vocabulary on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bought an electronic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even went to an English Conversation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, she still has trouble listening, understanding, reading and writing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sh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ill, she still has trouble listening, understanding, reading and writing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should sh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Way for Keiko to improve her English is to learn how to read English for fun!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Best Way for Keiko to improve her English is to learn how to read English for fun!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et me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oluntary Reading (F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because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what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ook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read magazines, comic boo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漫画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children’s books, anything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自由自発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ree Voluntary Reading (F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because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what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o Book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 can read magazines, comic boo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漫画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, children’s books, anything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自由自発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Engl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learn to read Japanese with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understand new wor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books did you read when you started reading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read a book in English (with no Japanese word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Engl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ithout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learn to read Japanese with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 did you understand new wor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kinds of books did you read when you started reading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ave you ever read a book in English (with no Japanese word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hould you n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ading will be too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sing the meaning of words is a very important part of becoming a good 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dictionary to look up every word i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circle words and look them up later to check their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should you n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e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r reading will be too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uessing the meaning of words is a very important part of becoming a good 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ing a dictionary to look up every word i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 can circle words and look them up later to check their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use FV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51 out of 54 comparative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practiced FVR had higher reading scores than students who learned how to read English in the usual (traditional)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use FV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51 out of 54 comparative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practiced FVR had higher reading scores than students who learned how to read English in the usual (traditional)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Ｓｉｎｇａｐｏｒ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tudies of 3,000 children aged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ren participated in a “Reading and English Acquisition Program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ren who read English for fun learned English better than those who studied in the traditional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英語習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Ｓｉｎｇａｐｏｒ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 studies of 3,000 children aged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children participated in a “Reading and English Acquisition Program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children who read English for fun learned English better than those who studied in the traditional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英語習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Scores in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Scores in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opp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英語科目、再履修の学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英語科目、再履修の学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Please summarize with your friends what I have said up to this poi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答えは日本語で書いてもいいです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nformation have you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at has been the main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do you think? What is your idea? Do you have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. Please summarize with your friends what I have said up to this poi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答えは日本語で書いてもいいです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1. What information have you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. What has been the main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. What do you think? What is your idea? Do you have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develop the habi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ing books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students do extracurricula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履修科目の勉強とは関係が全くな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OEFL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develop the habi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reading books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uch students do extracurricula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履修科目の勉強とは関係が全くな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IGHER TOEFL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is too complex to learn one word or one rule at a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have  many nu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vocabul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list is not effec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は限りなく複雑であ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nguage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nguage is too complex to learn one word or one rule at a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rds have  many nu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earning vocabul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rom a list is not effec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言語は限りなく複雑であ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say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椅子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a cha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it’s not a chair; it’s a s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 do you say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椅子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s this a cha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o, it’s not a chair; it’s a s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to d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＝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するつ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going to visit my n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he finds out, he’s going to be ang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orrow, it’s going to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s the train going to c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oing to d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＝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するつ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’m going to visit my n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en he finds out, he’s going to be ang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omorrow, it’s going to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en is the train going to c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some other words that have different nuances in Japanese and i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(not ho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rds or grammar can you think of that is different in English and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se are some other words that have different nuances in Japanese and i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me (not ho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words or grammar can you think of that is different in English and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se two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o are these two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 of Malcolm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ent to school to the 8th Grade (the 2nd year of Middle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to read while he wa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very eloqu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雄弁な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 famous autobi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自叙伝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powerful African-American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Story of Malcolm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Only went to school to the 8th Grade (the 2nd year of Middle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gan to read while he wa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came a very eloqu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雄弁な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rote a famous autobi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自叙伝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came a powerful African-American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Practice FVR Receive Higher Scores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Practice FVR Receive Higher Scores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chool English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enjoy your high school English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learn how to speak English in your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communicate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r teacher communicate to you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igh School English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enjoy your high school English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learn how to speak English in your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communicate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r teacher communicate to you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and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Instruction is almost never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mar Instruction does not help students read and wri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lling and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lling Instruction is almost never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rammar Instruction does not help students read and wri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答えは日本語で書いてもいいです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nnection between students who read for pleasure and TOEFL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studying grammar and vocabulary lists not an effective way of learning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Malcom X? What is the connection between him and this 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improve your English, what should you do after this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答えは日本語で書いてもいいです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is the connection between students who read for pleasure and TOEFL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is studying grammar and vocabulary lists not an effective way of learning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o was Malcom X? What is the connection between him and this 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f you want to improve your English, what should you do after this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reading for fun is very importan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comic books, magazines and fictional stories is the best way to lear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site of children’s sto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gickeys.com/boo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read one for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ight reading for fun is very importan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comic books, magazines and fictional stories is the best way to lear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ere is a website of children’s sto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ttp://www.magickeys.com/boo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ease read one for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 Exam Prepar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受験勉強）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education is to prepare for an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exam is to divide students into winners and 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’ interests and individuality are ign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memoriz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haracteristic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 Exam Prepar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受験勉強）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education is to prepare for an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the exam is to divide students into winners and 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’ interests and individuality are ign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memoriz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Result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hat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hat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find classe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lose confidence in themselves, especially in their academic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eachers try to contro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direct Result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hat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hat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find classe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lose confidence in themselves, especially in their academic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teachers try to contro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Strategies for Resisting 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become extremely passive, sleeping 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become silent, never asking questions or showing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completely separate their personal, meaningful lives from the classroom, which has no meaning for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 Strategies for Resisting 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become extremely passive, sleeping 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become silent, never asking questions or showing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completely separate their personal, meaningful lives from the classroom, which has no meaning for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Strategi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ver do more than what is required by the teacher (home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think about the content of thei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in the classroom wait for class to end so they can be free of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no personal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 Strategi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never do more than what is required by the teacher (home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think about the content of thei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in the classroom wait for class to end so they can be free of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ve no personal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know how to learn for purposes of person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ver ac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little experience learning outside of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see learning as something that gives the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know how to study for purposes other than a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onsequenc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know how to learn for purposes of person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never ac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ve little experience learning outside of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see learning as something that gives the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know how to study for purposes other than a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nnection between Entrance Examinations and the fact that many students do not learn to speak English in high school?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write down your idea in English or Japan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is the connection between Entrance Examinations and the fact that many students do not learn to speak English in high school?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ease write down your idea in English or Japan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D1D-C952-4B8A-9C7D-17F12B86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6C3-72F4-4641-8459-643FD3E7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684E-BED6-4043-B654-85E34D02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0C32-4F88-47D2-95A0-C7B1B604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E739-77B3-438E-BBB9-C2065B8B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2F6-D152-4D81-A868-6C9C291B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C3ED-AFB2-4860-B747-C12AE4C3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EEB4-E2D2-49F9-BE63-570522DD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5D6-DD36-4A05-B039-E2C1B9E1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2150-BC78-4244-9A7B-6B769CB1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932-359A-4C9B-B34F-A2050A97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FE0-5E61-4665-A760-00CC4636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69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0D65-9691-4094-BCEF-298994860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ailyinfo.co.uk/images/dragon%20reading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oakinheritance.com/images/largepics/stoo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magickeys.com/book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ower of Read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res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Dr. Charles Cab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work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en Kras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7" descr="dragon%2520rea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276640"/>
            <a:ext cx="3025440" cy="2365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Keiko. She has a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10001310128"/>
          <p:cNvPicPr/>
          <p:nvPr/>
        </p:nvPicPr>
        <p:blipFill>
          <a:blip r:embed="rId1"/>
          <a:stretch/>
        </p:blipFill>
        <p:spPr>
          <a:xfrm>
            <a:off x="2195640" y="1557360"/>
            <a:ext cx="4465440" cy="334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iko wants to improve her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tudied English for six years in Jr. High and in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ought several books on English Gramm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tudied vocabulary on the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ought an electronic dic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even went to an English Conversation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, she still has trouble listening, understanding, reading and writing.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sh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st Way for Keiko to improve her English is to learn how to read English for fun!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me explai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96854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e Voluntary Reading (FVR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2852640"/>
            <a:ext cx="79916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because you want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what YOU want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ook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read magazines, comic book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漫画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hildren’s books, anything you w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484360" y="141300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自由自発的読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Englis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out a Dictio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learn to read Japanese with a diction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 understand new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s of books did you read when you started reading Japan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read a book in English (with no Japanese word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hould you no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a diction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eading will be too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ing the meaning of words is a very important part of becoming a good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dictionary to look up every word is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ircle words and look them up later to check their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FV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80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51 out of 54 comparative stu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practiced FVR had higher reading scores than students who learned how to read English in the usual (traditional)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Ｓｉｎｇａｐｏｒ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udies of 3,000 children aged 6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participated in a “Reading and English Acquisition Program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who read English for fun learned English better than those who studied in the traditional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6372360" y="1341360"/>
            <a:ext cx="2282760" cy="752400"/>
          </a:xfrm>
          <a:prstGeom prst="wedgeRoundRectCallout">
            <a:avLst>
              <a:gd name="adj1" fmla="val -122879"/>
              <a:gd name="adj2" fmla="val 2065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英語習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4982760"/>
            <a:ext cx="1411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640" y="549000"/>
            <a:ext cx="7777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Scores in South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557360"/>
          <a:ext cx="7180200" cy="4289400"/>
        </p:xfrm>
        <a:graphic>
          <a:graphicData uri="http://schemas.openxmlformats.org/drawingml/2006/table">
            <a:tbl>
              <a:tblPr/>
              <a:tblGrid>
                <a:gridCol w="1152360"/>
                <a:gridCol w="1079640"/>
                <a:gridCol w="846000"/>
                <a:gridCol w="1024200"/>
                <a:gridCol w="1025280"/>
                <a:gridCol w="1027440"/>
                <a:gridCol w="1025280"/>
              </a:tblGrid>
              <a:tr h="64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t C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C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ping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18440" cy="37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英語科目、再履修の学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435880" cy="2260440"/>
        </p:xfrm>
        <a:graphic>
          <a:graphicData uri="http://schemas.openxmlformats.org/drawingml/2006/table">
            <a:tbl>
              <a:tblPr/>
              <a:tblGrid>
                <a:gridCol w="2813040"/>
                <a:gridCol w="2809800"/>
                <a:gridCol w="2813040"/>
              </a:tblGrid>
              <a:tr h="105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ve Reading in Japan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Semester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Ｐｒｅｔｅｓ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Ｍｅａｎ（中間点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Ｐｏｓｔ　ｔｅｓ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Ｍｅａ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01"/>
          <p:cNvSpPr/>
          <p:nvPr/>
        </p:nvSpPr>
        <p:spPr>
          <a:xfrm>
            <a:off x="539640" y="393372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95280" y="4005360"/>
          <a:ext cx="8424720" cy="208764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05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Ｅｘｔｅｎｓｉｖ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Ｒｅａｄｉｎｇ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Ｔｒａｄｉｔｉｏｎａ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lease summarize with your friends what I have said up to this poin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答えは日本語で書いてもいいです。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79311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information have you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has been the main poi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at do you think? What is your idea? Do you have 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80629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develop the habit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ding books on thei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199728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50920" y="1989000"/>
            <a:ext cx="856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students do extracurricular rea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967400" y="306864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履修科目の勉強とは関係が全くない読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324000" y="458136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GHER TOEFL SC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is too complex to learn one word or one rule at a ti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have  many nu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vocabula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list is not effectiv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129400" y="1197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言語は限りなく複雑であるこ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2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say “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椅子”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too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916280"/>
            <a:ext cx="2390760" cy="280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3059280" y="134136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a ch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763640" y="4941720"/>
            <a:ext cx="55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it’s not a chair; it’s a s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to do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　＝　するつも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vis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ni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 finds out, he’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be ang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t’s going to r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the tra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c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some other words that have different nuances in Japanese and in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8147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(not ho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0" y="486900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ords or grammar can you think of that is different in English and Japan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these two peo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Malcolm X Photo"/>
          <p:cNvPicPr/>
          <p:nvPr/>
        </p:nvPicPr>
        <p:blipFill>
          <a:blip r:embed="rId1"/>
          <a:stretch/>
        </p:blipFill>
        <p:spPr>
          <a:xfrm>
            <a:off x="3132000" y="1844640"/>
            <a:ext cx="32068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ory of Malcolm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went to school to the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(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ar of Middle Scho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to read while he was in p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a very eloquen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雄弁な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a famous autobiograph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自叙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a powerful African-American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 who Practice FVR Receive Higher Scores i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915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School English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enjoy your high school English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learn how to speak English in your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ommunicate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r teacher communicate to you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and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 Instruction is almost never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 Instruction does not help students read and write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（答えは日本語で書いてもいいです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onnection between students who read for pleasure and TOEFL sc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studying grammar and vocabulary lists not an effective way of learning Eng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Malcom X? What is the connection between him and this pres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to improve your English, what should you do after this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50920" y="1052640"/>
            <a:ext cx="8686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reading for fun is very importan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omic books, magazines and fictional stories is the best way to lear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 website of children’s sto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gickeys.com/book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ease read one for yoursel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ance Exam Preparatio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受験勉強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education is to prepare for an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e exam is to divide students into winners and lo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’ interests and individuality are ign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emoriz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rect Result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hat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hat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find classes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lose confidence in themselves, especially in their academic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eachers try to contro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 Strategies for Resisting 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become extremely passive, sleeping in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become silent, never asking questions or showing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mpletely separate their personal, meaningful lives from the classroom, which has no meaning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Strategie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never do more than what is required by the teacher (home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do not think about the content of their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in the classroom wait for class to end so they can be free of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no personal learning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quenc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know how to learn for purposes of persona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never act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have little experience learning outside of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see learning as something that gives them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know how to study for purposes other than a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connection between Entrance Examinations and the fact that many students do not learn to speak English in high school?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write down your idea in English or Japane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13:45:19Z</dcterms:created>
  <dc:creator>東洋大学</dc:creator>
  <dc:description/>
  <dc:language>en-US</dc:language>
  <cp:lastModifiedBy>LEGION</cp:lastModifiedBy>
  <dcterms:modified xsi:type="dcterms:W3CDTF">2015-09-11T13:13:25Z</dcterms:modified>
  <cp:revision>16</cp:revision>
  <dc:subject/>
  <dc:title>The Power of Reading</dc:title>
</cp:coreProperties>
</file>